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CA0-4B6F-4CA3-A3C3-3E523EE88E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8C8-441C-4CA4-8636-07EAE8FB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FBA-8B98-4F64-BBB6-A634D4D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BFC-B44A-4AE0-AECD-B4A5B7D8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BE6-5DC7-4D72-B0C6-1AA726A1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D082-D87F-4C7D-817C-BD2174A3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165-DD7C-43AF-A8F3-EAB36CF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CF9-FFC4-47EF-9321-576758F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C3A-FE4A-4D7D-9D00-1E8A1A0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CBBF-6866-4542-A08C-88A8402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E0B-73AC-4C05-B217-6BECFC0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C3E-442F-4226-86E8-6FC83A6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A3D-0D96-4F83-8E76-93C8DE1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4623-A609-4A1E-81D1-D297E1F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F7F-7B73-4406-BDF1-2A04EB3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1608-2AEF-4276-828B-78808A7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ED4-AB0C-4994-BB84-E2760B95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418E-13F7-4B81-88CF-EAD7BEC3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54C-B6BC-4660-87CE-1C716047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489-5467-4B49-85FA-AB03AA2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BC5-D977-4E9D-BF5B-EE65E88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C63-20EB-4C63-9610-832B15E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69A-42E0-4E1B-8106-451F7E2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16F-9814-4056-BCAD-042687B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67B-1587-4242-9DC1-C92DE0F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85FC-F892-4D60-9B1E-C569A9C310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28A3-CE57-4047-8D56-C7B466021F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9BF-2B27-4A9C-BC6D-AA1CC9F27503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nd-don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Test User</cp:lastModifiedBy>
  <dcterms:modified xsi:type="dcterms:W3CDTF">2010-05-21T01:05:49Z</dcterms:modified>
  <cp:revision>17</cp:revision>
  <dc:subject/>
  <dc:title>Internet</dc:title>
</cp:coreProperties>
</file>